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CD29-F76E-48B5-A872-B1F5DD4A021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EEA0-0DE0-4CF9-8DD1-665F56EA3E8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ADD-7481-44FE-9BB6-BD68EBA9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58C-891F-4AF9-8200-15B6FD58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406-AEF4-48C4-A79A-2B7E10C2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0ED7-C4B1-4EB1-A215-3D207FCC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9D9-E8B1-40D2-9964-B018EFF5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52D0-3E29-4744-BAFF-EE7CD51E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587-7D54-48CA-A0E8-0C31CFDB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55E-8D9D-4478-95C1-90DAFADB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659-6E29-4A0F-93E3-B762BAA1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5C1-6E5C-48E5-9A92-5ABD4C27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0173-8B99-47B9-88FA-C2F9356F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38D-B842-4604-A676-23D34154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424C-1A5A-4139-A6EF-BD6A30008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1555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uando los líderes hurgan más profundo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pueden descubrir por qué no los sigue más gent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28600" y="1410480"/>
            <a:ext cx="58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ando la gente lo respeta como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amigo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MA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429000" y="36586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Cuando la gente lo respeta como persona,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MI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28600" y="542052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Cuando la gente lo respeta como líder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GUE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77120" y="1387440"/>
            <a:ext cx="2286000" cy="19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tp://diginomica.com/wp-content/uploads/2014/12/leader.jpg"/>
          <p:cNvPicPr/>
          <p:nvPr/>
        </p:nvPicPr>
        <p:blipFill>
          <a:blip r:embed="rId2"/>
          <a:stretch/>
        </p:blipFill>
        <p:spPr>
          <a:xfrm>
            <a:off x="85680" y="2743200"/>
            <a:ext cx="3191040" cy="25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rcRect l="0" t="0" r="-2794" b="0"/>
          <a:stretch/>
        </p:blipFill>
        <p:spPr>
          <a:xfrm>
            <a:off x="5486400" y="4724280"/>
            <a:ext cx="3249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6320" y="80640"/>
            <a:ext cx="90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razones por las cuales muchos líderes no se han ganado el respeto de la gen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33200" y="140508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qu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TAT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ÍTU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359240" y="3205440"/>
            <a:ext cx="463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iensa qu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ERI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33200" y="4914720"/>
            <a:ext cx="60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Su necesidad 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EP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or los demás es más grande que su necesidad de ser respetado por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-917" t="0" r="0" b="0"/>
          <a:stretch/>
        </p:blipFill>
        <p:spPr>
          <a:xfrm>
            <a:off x="7010280" y="1263600"/>
            <a:ext cx="1646280" cy="17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ttp://1.bp.blogspot.com/-lKUc2tu8A3g/UA1UEYYUSnI/AAAAAAAAAQo/PkV7xN4EBwY/s1600/board_meet.gif"/>
          <p:cNvPicPr/>
          <p:nvPr/>
        </p:nvPicPr>
        <p:blipFill>
          <a:blip r:embed="rId2"/>
          <a:srcRect l="0" t="0" r="0" b="28705"/>
          <a:stretch/>
        </p:blipFill>
        <p:spPr>
          <a:xfrm>
            <a:off x="380880" y="2732040"/>
            <a:ext cx="359100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6765840" y="4800600"/>
            <a:ext cx="1768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15174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étese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SÍ MIS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y a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28600" y="3632040"/>
            <a:ext cx="830592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intente ser siempre popular. No es posible agradarles a todos, por el contrario es mucho más importante agradarse a sí mismo. Cuando usted se respeta a sí mismo, curiosamente, tendrá más respeto que si lo buscara de otro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324480" y="892080"/>
            <a:ext cx="21034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59200" y="111924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eto a mí mismo signif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23480" y="214452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endo quién soy en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990720" y="3087720"/>
            <a:ext cx="76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Aprecio y sé mis talentos y done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ios me ha d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031040" y="4307040"/>
            <a:ext cx="71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Usualmente me desempeño bien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035000" y="5555160"/>
            <a:ext cx="776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No tomo de manera personal cada fra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345440" y="927000"/>
            <a:ext cx="1646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67480" y="7776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respeto a los demás signif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41440" y="1027440"/>
            <a:ext cx="585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y cuidadoso de no herir el respeto o la dignidad de na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33520" y="2673720"/>
            <a:ext cx="62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a cada persona como alguien creado por Dios y talent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7200" y="4412880"/>
            <a:ext cx="86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más allá de las fallas de otros, y ver sus necesidades y su pot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570816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nto tratar a todos los que conozco como si fueran muy impor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6700680" y="914400"/>
            <a:ext cx="2291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24720" y="3844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88480" y="1758240"/>
            <a:ext cx="791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uestra generalmente respeto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s demás o falla en mostrar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or qué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88480" y="4061880"/>
            <a:ext cx="77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é ejemplos de cómo le mue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peto a los demá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66600" y="952200"/>
            <a:ext cx="79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Exceda las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ECTATIV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38640" y="1668240"/>
            <a:ext cx="79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mo exceder las expectativas de los dem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70240" y="2262240"/>
            <a:ext cx="67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ezca normas personales a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73480" y="287172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Conozca la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76360" y="3468240"/>
            <a:ext cx="78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Cumpla esas expectativas y vaya aún m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33520" y="446904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Termine cada tarea o proyecto y luego pregunte: ¿Qué más se puede hacer para sorprender a todo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ttp://www.callcentrehelper.com/images/stories/2010/exceed-expectations-510.jpg"/>
          <p:cNvPicPr/>
          <p:nvPr/>
        </p:nvPicPr>
        <p:blipFill>
          <a:blip r:embed="rId1"/>
          <a:stretch/>
        </p:blipFill>
        <p:spPr>
          <a:xfrm>
            <a:off x="5029200" y="4267080"/>
            <a:ext cx="3882960" cy="2409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108720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19320" y="2137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qué manera excede las expectativas de los demás como líd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6320" y="651960"/>
            <a:ext cx="906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Manténgase firme en sus convicciones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RINCIPI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52280" y="1182960"/>
            <a:ext cx="869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dades que los líderes eficientes saben cuando dirigen a la g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8600" y="2173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ted debe aprender a separar las opiniones de las convi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28600" y="30650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No puede ser un líder eficiente si no sabe lo que 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37960" y="39657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Debe mostrar el camino y liderar a través del ejemplo para ganarse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2280" y="4974120"/>
            <a:ext cx="51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Únicamente si está dispuesto a morir por algo, usted es realmente digno de 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65680" y="6264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Image result for estad firmes"/>
          <p:cNvPicPr/>
          <p:nvPr/>
        </p:nvPicPr>
        <p:blipFill>
          <a:blip r:embed="rId1"/>
          <a:stretch/>
        </p:blipFill>
        <p:spPr>
          <a:xfrm>
            <a:off x="5267160" y="4861080"/>
            <a:ext cx="3733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16352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72840" y="1848240"/>
            <a:ext cx="72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uáles son sus convicc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al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568880" y="3810960"/>
            <a:ext cx="60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es lo que defien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6080" y="304920"/>
            <a:ext cx="90979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52280" y="983880"/>
            <a:ext cx="885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sea un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sea mucho mayor que su edad y exper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4600" y="22366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signos de madur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2560" y="299844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ons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16440" y="376056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18240" y="44463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Co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16800" y="528444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arác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17520" y="612288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Segur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ttp://www.desmotivar.com/img/desmotivaciones/159731_la-madurez-esta-en-la-mente.jpg"/>
          <p:cNvPicPr/>
          <p:nvPr/>
        </p:nvPicPr>
        <p:blipFill>
          <a:blip r:embed="rId1"/>
          <a:stretch/>
        </p:blipFill>
        <p:spPr>
          <a:xfrm>
            <a:off x="5554800" y="2743200"/>
            <a:ext cx="3452760" cy="4000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63520" y="176760"/>
            <a:ext cx="74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163520" y="94716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6040" y="2080800"/>
            <a:ext cx="62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señales de madur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muestr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52480" y="3546720"/>
            <a:ext cx="54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cuáles care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76320" y="8780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52280" y="198324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definición de John Maxwell acerca del éxito es: “cuando aquellos que están más cerca de mí, son los que más me aman y me respetan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5511960" y="3187800"/>
            <a:ext cx="3479760" cy="3479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73240" y="19188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22320" y="5954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5000" y="1893960"/>
            <a:ext cx="9088200" cy="27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 ganar el respeto como líder, el éxito debe…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r en la familia, en la carrera y en la vida personal. 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 notado por los demás sin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íder llame la atenci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6621480" y="4208400"/>
            <a:ext cx="2387520" cy="2389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55600" y="7128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120" y="11541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7840" y="1757880"/>
            <a:ext cx="869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dónde se encuentra más fuerte o más débil en las siguientes áreas: Vida personal / Vida familia / Carrera exit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85040" y="77292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R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6320" y="144036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existe más noble ocupación en el mundo que ayudar a otro ser humano a lograr el éxi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n Loy McGi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3840" y="3137040"/>
            <a:ext cx="501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 agregamos valor a los demás cuando los valoramos verdaderam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715000" y="3614760"/>
            <a:ext cx="3259080" cy="3219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73240" y="7776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155240" y="147960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23480" y="213696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Qué hace específicament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ara añadirles valor a los demá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79640" y="849240"/>
            <a:ext cx="64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ÁS ALL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los demá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73960" y="144936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ganan el resp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63440" y="2395440"/>
            <a:ext cx="83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en grande qu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200" y="3278160"/>
            <a:ext cx="83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63440" y="4194360"/>
            <a:ext cx="43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antes que otros lo ha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4724280" y="3959280"/>
            <a:ext cx="4292640" cy="2817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20960" y="144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088280" y="1297800"/>
            <a:ext cx="32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02680" y="2747520"/>
            <a:ext cx="75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le impide ver más allá y pen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grand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85760" y="65160"/>
            <a:ext cx="85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las siete características para edificar el respeto como lí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1146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Respétese a sí mismo y a los que trabajan con u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2058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ceda las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2670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Manténgase firme en sus convicciones  y princip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366084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Posea una madurez que sea mucho mayor que su edad y experi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465156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éxito en su carrera, en su familia,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5726160"/>
            <a:ext cx="65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o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63262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23520" y="94608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08440" y="1608120"/>
            <a:ext cx="755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s siete características anterior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líder respetado, ¿cuáles cree que h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mente? ¿En cuáles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23160" y="35370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92320" y="4119840"/>
            <a:ext cx="70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lexione y escriba un paso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puede tomar para crecer en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ci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4520" y="321300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raphical user interfac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2101680" y="380880"/>
            <a:ext cx="4299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76240" y="1075680"/>
            <a:ext cx="7734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Cómo ganarse a la gent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842480" y="3355200"/>
            <a:ext cx="58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lume 2, Manual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750960" y="1534320"/>
            <a:ext cx="8393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1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 derecho de tener seguid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28600" y="155880"/>
            <a:ext cx="87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maneras frecuentes en las que los líd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quieren influencia con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15580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usan su título y posición para conseguir que los demás lo s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62280" y="3885120"/>
            <a:ext cx="55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ejercitan sanamente sus capacidades relacionales para ganarse el derecho de lid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tp://www.illustrationsof.com/royalty-free-authority-clipart-illustration-47628.jpg"/>
          <p:cNvPicPr/>
          <p:nvPr/>
        </p:nvPicPr>
        <p:blipFill>
          <a:blip r:embed="rId1"/>
          <a:stretch/>
        </p:blipFill>
        <p:spPr>
          <a:xfrm>
            <a:off x="6734160" y="91440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radhanathswamionline.com/wp-content/uploads/2012/04/Ideal-Leader.jpg"/>
          <p:cNvPicPr/>
          <p:nvPr/>
        </p:nvPicPr>
        <p:blipFill>
          <a:blip r:embed="rId2"/>
          <a:stretch/>
        </p:blipFill>
        <p:spPr>
          <a:xfrm>
            <a:off x="195120" y="4038480"/>
            <a:ext cx="338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80240" y="115344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3520" y="2273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uede pensar en un ejemplo de cómo la gente de influencia motiva y moviliza a los demás sin usar un títu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71480" y="30600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eniendo el respeto de los de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2280" y="1147320"/>
            <a:ext cx="74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preguntas silenciosas que cada seguidor le hace a su líder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8200" y="2973600"/>
            <a:ext cx="51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¿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NFÍ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n ust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572720" y="57164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¿L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E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5943600" y="2293920"/>
            <a:ext cx="2438280" cy="291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s://encrypted-tbn2.gstatic.com/images?q=tbn:ANd9GcTEkDdjym9_FubAYIxfatTX8A8dhvwHU_-uzbUcC5jRXxUopn8U"/>
          <p:cNvPicPr/>
          <p:nvPr/>
        </p:nvPicPr>
        <p:blipFill>
          <a:blip r:embed="rId2"/>
          <a:srcRect l="0" t="-837" r="0" b="0"/>
          <a:stretch/>
        </p:blipFill>
        <p:spPr>
          <a:xfrm>
            <a:off x="736560" y="4267080"/>
            <a:ext cx="3530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4:43Z</dcterms:created>
  <dc:creator>montecyr@yahoo.com</dc:creator>
  <dc:description/>
  <dc:language>en-US</dc:language>
  <cp:lastModifiedBy>Monte Cyr</cp:lastModifiedBy>
  <dcterms:modified xsi:type="dcterms:W3CDTF">2021-02-20T04:02:06Z</dcterms:modified>
  <cp:revision>13</cp:revision>
  <dc:subject/>
  <dc:title>PowerPoint Presentation</dc:title>
</cp:coreProperties>
</file>